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Controlo de Infeção em Cuidados Continu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DB2-0DC3-4721-9129-A3153FBC2F2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EA6C-C91D-4B33-A057-8E71780E841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099-3C81-4E2A-99B2-C4857FCCD6C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739E-71F0-4312-922B-FDAA55B09388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4C8-0DCC-4011-92D5-C4F4F5D5488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0DDF-2166-4FA5-B384-78564FD9221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0511-300F-44A1-9310-A6DB143B7B1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EC3B-8790-4B2E-87A7-8089B2AECDAD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E1D-6535-4E9D-BF61-E5A1ECBE327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31A-AB98-4E6B-811A-677F4264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ADD-4A9E-49FB-BA1B-7AEECEF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6B2-219D-482A-95EB-D604C781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186-9B95-409B-9562-A952F905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52E-8818-43B0-8393-E57E4A1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DAC-FEC6-4F48-B080-6AF2A482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0DC-D75C-46C4-9A1C-4484067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931-2327-4E6C-A8B9-631D4BA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A5F-E31F-49D5-BA79-86E4D84A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3B6-6FE0-4801-B733-67610F8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DFC-54F4-4029-BB86-61B8B7F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9BF-112D-4D2C-91F9-2F6A9EF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617-195A-434F-9A90-321BC1B34E78}" type="datetime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Controlo de Infeção em Cuidados Continuados   -   Constança Car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747-0EE7-4DF5-AAD2-C047CEE80783}" type="slidenum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CCI049%20-%20Auditoria%20PBCI.xls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CCI049%20-%20Auditoria%20PBCI.xls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G_ATB_UMDR_2014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9" descr="3103400930e9d4aaa7da32d06ecb73a1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-571680" y="0"/>
            <a:ext cx="4410360" cy="3306600"/>
          </a:xfrm>
          <a:prstGeom prst="rect">
            <a:avLst/>
          </a:prstGeom>
          <a:ln w="0">
            <a:noFill/>
          </a:ln>
        </p:spPr>
      </p:pic>
      <p:sp>
        <p:nvSpPr>
          <p:cNvPr id="49" name="Rectângulo arredondado 8"/>
          <p:cNvSpPr/>
          <p:nvPr/>
        </p:nvSpPr>
        <p:spPr>
          <a:xfrm>
            <a:off x="-684360" y="3141720"/>
            <a:ext cx="5256360" cy="371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75e"/>
              </a:gs>
              <a:gs pos="100000">
                <a:srgbClr val="dce6f2"/>
              </a:gs>
            </a:gsLst>
            <a:lin ang="5400000"/>
          </a:gradFill>
          <a:ln w="4140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f497d"/>
                </a:solidFill>
                <a:latin typeface="Century Schoolbook"/>
              </a:rPr>
              <a:t>Maria José Vi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500280" y="-1317600"/>
            <a:ext cx="2428920" cy="8715240"/>
          </a:xfrm>
          <a:prstGeom prst="ellips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arredondado 6"/>
          <p:cNvSpPr/>
          <p:nvPr/>
        </p:nvSpPr>
        <p:spPr>
          <a:xfrm>
            <a:off x="4427640" y="-243000"/>
            <a:ext cx="5257800" cy="7358040"/>
          </a:xfrm>
          <a:custGeom>
            <a:avLst/>
            <a:gdLst>
              <a:gd name="textAreaLeft" fmla="*/ 73800 w 5257800"/>
              <a:gd name="textAreaRight" fmla="*/ 5184000 w 5257800"/>
              <a:gd name="textAreaTop" fmla="*/ 73800 h 7358040"/>
              <a:gd name="textAreaBottom" fmla="*/ 7284240 h 7358040"/>
            </a:gdLst>
            <a:ahLst/>
            <a:rect l="textAreaLeft" t="textAreaTop" r="textAreaRight" b="textAreaBottom"/>
            <a:pathLst>
              <a:path w="21600" h="30228">
                <a:moveTo>
                  <a:pt x="1040" y="0"/>
                </a:moveTo>
                <a:arcTo wR="1040" hR="1040" stAng="16200000" swAng="-5400000"/>
                <a:lnTo>
                  <a:pt x="0" y="29188"/>
                </a:lnTo>
                <a:arcTo wR="1040" hR="1040" stAng="10800000" swAng="-5400000"/>
                <a:lnTo>
                  <a:pt x="20560" y="30228"/>
                </a:lnTo>
                <a:arcTo wR="1040" hR="1040" stAng="5400000" swAng="-5400000"/>
                <a:lnTo>
                  <a:pt x="21600" y="1040"/>
                </a:lnTo>
                <a:arcTo wR="1040" hR="1040" stAng="0" swAng="-5400000"/>
                <a:close/>
              </a:path>
            </a:pathLst>
          </a:cu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m 10" descr="logo.png"/>
          <p:cNvPicPr/>
          <p:nvPr/>
        </p:nvPicPr>
        <p:blipFill>
          <a:blip r:embed="rId2"/>
          <a:stretch/>
        </p:blipFill>
        <p:spPr>
          <a:xfrm>
            <a:off x="611280" y="4359240"/>
            <a:ext cx="2495520" cy="844560"/>
          </a:xfrm>
          <a:prstGeom prst="rect">
            <a:avLst/>
          </a:prstGeom>
          <a:ln w="0">
            <a:noFill/>
          </a:ln>
        </p:spPr>
      </p:pic>
      <p:pic>
        <p:nvPicPr>
          <p:cNvPr id="53" name="Rectângulo 13" descr=""/>
          <p:cNvPicPr/>
          <p:nvPr/>
        </p:nvPicPr>
        <p:blipFill>
          <a:blip r:embed="rId3"/>
          <a:stretch/>
        </p:blipFill>
        <p:spPr>
          <a:xfrm>
            <a:off x="4363920" y="615960"/>
            <a:ext cx="5035680" cy="5918040"/>
          </a:xfrm>
          <a:prstGeom prst="rect">
            <a:avLst/>
          </a:prstGeom>
          <a:ln w="0">
            <a:noFill/>
          </a:ln>
        </p:spPr>
      </p:pic>
      <p:pic>
        <p:nvPicPr>
          <p:cNvPr id="54" name="Imagem 14" descr=""/>
          <p:cNvPicPr/>
          <p:nvPr/>
        </p:nvPicPr>
        <p:blipFill>
          <a:blip r:embed="rId4"/>
          <a:stretch/>
        </p:blipFill>
        <p:spPr>
          <a:xfrm>
            <a:off x="11544480" y="0"/>
            <a:ext cx="1881000" cy="3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apcer"/>
          <p:cNvPicPr/>
          <p:nvPr/>
        </p:nvPicPr>
        <p:blipFill>
          <a:blip r:embed="rId5"/>
          <a:stretch/>
        </p:blipFill>
        <p:spPr>
          <a:xfrm>
            <a:off x="3589200" y="2463840"/>
            <a:ext cx="766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Marcador de Posição do Rodapé 3"/>
          <p:cNvSpPr/>
          <p:nvPr/>
        </p:nvSpPr>
        <p:spPr>
          <a:xfrm>
            <a:off x="2050920" y="6356520"/>
            <a:ext cx="66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19280" y="1855800"/>
          <a:ext cx="7416720" cy="4375080"/>
        </p:xfrm>
        <a:graphic>
          <a:graphicData uri="http://schemas.openxmlformats.org/drawingml/2006/table">
            <a:tbl>
              <a:tblPr/>
              <a:tblGrid>
                <a:gridCol w="3708360"/>
                <a:gridCol w="370836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ipo de tratament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4" name="Gráfico 7" descr=""/>
          <p:cNvPicPr/>
          <p:nvPr/>
        </p:nvPicPr>
        <p:blipFill>
          <a:blip r:embed="rId1"/>
          <a:stretch/>
        </p:blipFill>
        <p:spPr>
          <a:xfrm>
            <a:off x="1639800" y="2706840"/>
            <a:ext cx="3578400" cy="3517920"/>
          </a:xfrm>
          <a:prstGeom prst="rect">
            <a:avLst/>
          </a:prstGeom>
          <a:ln w="0">
            <a:noFill/>
          </a:ln>
        </p:spPr>
      </p:pic>
      <p:pic>
        <p:nvPicPr>
          <p:cNvPr id="95" name="Gráfico 9" descr=""/>
          <p:cNvPicPr/>
          <p:nvPr/>
        </p:nvPicPr>
        <p:blipFill>
          <a:blip r:embed="rId2"/>
          <a:stretch/>
        </p:blipFill>
        <p:spPr>
          <a:xfrm>
            <a:off x="5353200" y="2706840"/>
            <a:ext cx="36576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Marcador de Posição do Rodapé 3"/>
          <p:cNvSpPr/>
          <p:nvPr/>
        </p:nvSpPr>
        <p:spPr>
          <a:xfrm>
            <a:off x="2268360" y="6356520"/>
            <a:ext cx="641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1855800"/>
          <a:ext cx="7417080" cy="4303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crorganismo isolad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0" name="Gráfico 8" descr=""/>
          <p:cNvPicPr/>
          <p:nvPr/>
        </p:nvPicPr>
        <p:blipFill>
          <a:blip r:embed="rId1"/>
          <a:stretch/>
        </p:blipFill>
        <p:spPr>
          <a:xfrm>
            <a:off x="1566720" y="2706840"/>
            <a:ext cx="3584880" cy="3444840"/>
          </a:xfrm>
          <a:prstGeom prst="rect">
            <a:avLst/>
          </a:prstGeom>
          <a:ln w="0">
            <a:noFill/>
          </a:ln>
        </p:spPr>
      </p:pic>
      <p:pic>
        <p:nvPicPr>
          <p:cNvPr id="101" name="Gráfico 7" descr=""/>
          <p:cNvPicPr/>
          <p:nvPr/>
        </p:nvPicPr>
        <p:blipFill>
          <a:blip r:embed="rId2"/>
          <a:stretch/>
        </p:blipFill>
        <p:spPr>
          <a:xfrm>
            <a:off x="5278320" y="2639880"/>
            <a:ext cx="373248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Marcador de Posição do Rodapé 3"/>
          <p:cNvSpPr/>
          <p:nvPr/>
        </p:nvSpPr>
        <p:spPr>
          <a:xfrm>
            <a:off x="2195640" y="6377040"/>
            <a:ext cx="64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1855800"/>
          <a:ext cx="7427880" cy="4303800"/>
        </p:xfrm>
        <a:graphic>
          <a:graphicData uri="http://schemas.openxmlformats.org/drawingml/2006/table">
            <a:tbl>
              <a:tblPr/>
              <a:tblGrid>
                <a:gridCol w="3714840"/>
                <a:gridCol w="37130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 de tratamento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6" name="Gráfico 7" descr=""/>
          <p:cNvPicPr/>
          <p:nvPr/>
        </p:nvPicPr>
        <p:blipFill>
          <a:blip r:embed="rId1"/>
          <a:stretch/>
        </p:blipFill>
        <p:spPr>
          <a:xfrm>
            <a:off x="1639800" y="2639880"/>
            <a:ext cx="3651480" cy="3511800"/>
          </a:xfrm>
          <a:prstGeom prst="rect">
            <a:avLst/>
          </a:prstGeom>
          <a:ln w="0">
            <a:noFill/>
          </a:ln>
        </p:spPr>
      </p:pic>
      <p:pic>
        <p:nvPicPr>
          <p:cNvPr id="107" name="Gráfico 11" descr=""/>
          <p:cNvPicPr/>
          <p:nvPr/>
        </p:nvPicPr>
        <p:blipFill>
          <a:blip r:embed="rId2"/>
          <a:stretch/>
        </p:blipFill>
        <p:spPr>
          <a:xfrm>
            <a:off x="5492880" y="2639880"/>
            <a:ext cx="3657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33640" y="1855800"/>
          <a:ext cx="6653160" cy="4260960"/>
        </p:xfrm>
        <a:graphic>
          <a:graphicData uri="http://schemas.openxmlformats.org/drawingml/2006/table">
            <a:tbl>
              <a:tblPr/>
              <a:tblGrid>
                <a:gridCol w="3327480"/>
                <a:gridCol w="332568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escritor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2" name="Gráfico 11" descr=""/>
          <p:cNvPicPr/>
          <p:nvPr/>
        </p:nvPicPr>
        <p:blipFill>
          <a:blip r:embed="rId1"/>
          <a:stretch/>
        </p:blipFill>
        <p:spPr>
          <a:xfrm>
            <a:off x="2066760" y="2852640"/>
            <a:ext cx="3224520" cy="3224160"/>
          </a:xfrm>
          <a:prstGeom prst="rect">
            <a:avLst/>
          </a:prstGeom>
          <a:ln w="0">
            <a:noFill/>
          </a:ln>
        </p:spPr>
      </p:pic>
      <p:pic>
        <p:nvPicPr>
          <p:cNvPr id="113" name="Gráfico 12" descr=""/>
          <p:cNvPicPr/>
          <p:nvPr/>
        </p:nvPicPr>
        <p:blipFill>
          <a:blip r:embed="rId2"/>
          <a:stretch/>
        </p:blipFill>
        <p:spPr>
          <a:xfrm>
            <a:off x="5425920" y="2919240"/>
            <a:ext cx="322452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28480" y="1357200"/>
            <a:ext cx="72104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Concluímos que na UMDR a infeção mais frequente é a ITU e na             ULDM é a infeção do trato respiratóri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UMDR no 2º semestre tivemos 32 residentes com  infecções,  22 com história de infeções prévias ao internament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 </a:t>
            </a: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5 sem informação, mas desenvolveram infecção nos primeiros 7 dias de internamento na unidad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28480" y="1285560"/>
            <a:ext cx="721044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Na ULDM dos 31 residentes a necessitar de tratamento AB, 13 fizeram-no nos primeiros 15 dias de internamento sendo que 8 estavam internados há menos de 7 dia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Na ULDM, a maior parte dos residentes a necessitar de tratamento com antibiótico fizeram-no apenas 1 vez (14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ou 2(12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50000"/>
              </a:lnSpc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A taxa de infeção expressa por doentes admitidos não entra em conta com o facto de que o mesmo doente pode ter mais do que uma infeção. Não pode ser utilizada para fins de comparação entre unidades, porque não contempla a duração do internament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Marcador de Posição do Rodapé 3"/>
          <p:cNvSpPr/>
          <p:nvPr/>
        </p:nvSpPr>
        <p:spPr>
          <a:xfrm>
            <a:off x="2050920" y="6356520"/>
            <a:ext cx="663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89040" y="1353600"/>
            <a:ext cx="728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A</a:t>
            </a:r>
            <a:r>
              <a:rPr b="0" i="1" lang="pt-PT" sz="2000" spc="-1" strike="noStrike" u="sng">
                <a:solidFill>
                  <a:srgbClr val="b9cde5"/>
                </a:solidFill>
                <a:uFillTx/>
                <a:latin typeface="Arial Narrow"/>
              </a:rPr>
              <a:t> </a:t>
            </a:r>
            <a:r>
              <a:rPr b="0" lang="pt-PT" sz="2000" spc="-1" strike="noStrike">
                <a:solidFill>
                  <a:srgbClr val="c6d9f1"/>
                </a:solidFill>
                <a:latin typeface="Arial Narrow"/>
              </a:rPr>
              <a:t>densidade de incidência de infeções expressa por 100 dias de internament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c6d9f1"/>
                </a:solidFill>
                <a:latin typeface="Arial Narrow"/>
              </a:rPr>
              <a:t>(Nº de Novos Episódios de infeções/Nº de dias de internamento) x 1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Marcador de Posição do Rodapé 3"/>
          <p:cNvSpPr/>
          <p:nvPr/>
        </p:nvSpPr>
        <p:spPr>
          <a:xfrm>
            <a:off x="2195640" y="6356520"/>
            <a:ext cx="64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103560" y="4005360"/>
          <a:ext cx="4064040" cy="1655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</a:tblGrid>
              <a:tr h="55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fe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UL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U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4f81bd"/>
                          </a:solidFill>
                          <a:latin typeface="Century Schoolbook"/>
                        </a:rPr>
                        <a:t>0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89040" y="1844280"/>
            <a:ext cx="7283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Análise dos resultado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sta taxa reflete o número de doentes de risco assim como a duração do risco em função da duração de internamento e pode ser utilizada para comparação entre unidades e entre país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Marcador de Posição do Rodapé 3"/>
          <p:cNvSpPr/>
          <p:nvPr/>
        </p:nvSpPr>
        <p:spPr>
          <a:xfrm>
            <a:off x="2124000" y="6165720"/>
            <a:ext cx="656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ângulo 4" descr=""/>
          <p:cNvPicPr/>
          <p:nvPr/>
        </p:nvPicPr>
        <p:blipFill>
          <a:blip r:embed="rId1"/>
          <a:stretch/>
        </p:blipFill>
        <p:spPr>
          <a:xfrm>
            <a:off x="3968640" y="3565440"/>
            <a:ext cx="7736040" cy="2043360"/>
          </a:xfrm>
          <a:prstGeom prst="rect">
            <a:avLst/>
          </a:prstGeom>
          <a:ln w="0">
            <a:noFill/>
          </a:ln>
        </p:spPr>
      </p:pic>
      <p:sp>
        <p:nvSpPr>
          <p:cNvPr id="131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0D02-AB07-4740-92CE-7E6C7BF23C39}" type="slidenum"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5"/>
          <p:cNvSpPr/>
          <p:nvPr/>
        </p:nvSpPr>
        <p:spPr>
          <a:xfrm>
            <a:off x="2124000" y="26208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6d9f1"/>
                </a:solidFill>
                <a:latin typeface="Arial"/>
              </a:rPr>
              <a:t>maria.vieira@radelfe.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6920" y="2060640"/>
            <a:ext cx="7859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dce6f2"/>
                </a:solidFill>
                <a:latin typeface="Arial Narrow"/>
              </a:rPr>
              <a:t>Radelfe</a:t>
            </a: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 – Unidade UCCI privada, a funcionar desde fevereiro 2009, contemplando UMDR e ULD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Unidades separadas fisicamente em pisos distintos,  localizada  em Paços de Ferreir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Total de camas – 49 – ( 27 ULDM / 22 UMDR 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dce6f2"/>
                </a:solidFill>
                <a:latin typeface="Arial Narrow"/>
              </a:rPr>
              <a:t>Certificada pela APCER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Marcador de Posição do Rodapé 3"/>
          <p:cNvSpPr/>
          <p:nvPr/>
        </p:nvSpPr>
        <p:spPr>
          <a:xfrm>
            <a:off x="2124000" y="6165720"/>
            <a:ext cx="684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 : Prevenção e controlo da infeção e da resistência aos antimicrobianos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Manual de precauções básicas de controlo de infe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280" y="2276280"/>
            <a:ext cx="7417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ste manual pretende ser um guia prático que oferece normas de orientação claras a todos os profissionais de saúde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    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De fácil acesso 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     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Atualizado regularmen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Manual de precauções básicas de controlo de infe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27280" y="1413000"/>
            <a:ext cx="680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ddd9c3"/>
                </a:solidFill>
                <a:latin typeface="Arial Narrow"/>
              </a:rPr>
              <a:t>Promove a</a:t>
            </a: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prática de higiene das mãos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o uso de equipamento de proteção individual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controlo ambiental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tratamento da roupa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gestão de resíduos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etiqueta respiratória 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c6d9f1"/>
                </a:solidFill>
                <a:latin typeface="Arial Narrow"/>
              </a:rPr>
              <a:t>recomendações para prevenção de IT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550"/>
              </a:spcBef>
              <a:buClr>
                <a:srgbClr val="c6d9f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Marcador de Posição do Rodapé 3"/>
          <p:cNvSpPr/>
          <p:nvPr/>
        </p:nvSpPr>
        <p:spPr>
          <a:xfrm>
            <a:off x="2124000" y="6356520"/>
            <a:ext cx="656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32000" y="907920"/>
            <a:ext cx="76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 </a:t>
            </a:r>
            <a:r>
              <a:rPr b="1" i="1" lang="pt-PT" sz="2000" spc="-1" strike="noStrike" u="sng">
                <a:solidFill>
                  <a:srgbClr val="ddd9c3"/>
                </a:solidFill>
                <a:uFillTx/>
                <a:latin typeface="Century Schoolbook"/>
              </a:rPr>
              <a:t>Objetivos 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Determinar a taxa de incidência de infeção e uso de antibióticos, e , assim reconhece-los de forma rigorosa e continuad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Planear ações para a prevenção e controlo de infeção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Desenvolver orientações de boas praticas baseadas na evidencia e avaliar o impacto das medidas corretivas aplicad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Arial Narrow"/>
              </a:rPr>
              <a:t>Promover a formação profission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16520" indent="-14616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Auditar, trimestralmente, o cumprimento das normas de </a:t>
            </a:r>
            <a:r>
              <a:rPr b="0" lang="pt-PT" sz="2000" spc="-1" strike="noStrike" u="sng">
                <a:solidFill>
                  <a:srgbClr val="0000ff"/>
                </a:solidFill>
                <a:uFillTx/>
                <a:latin typeface="Century Schoolbook"/>
                <a:hlinkClick r:id="rId1"/>
              </a:rPr>
              <a:t>PBCI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Divulgar semestralmente e discutir as taxas de infeção e uso de antibiótic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9240" indent="-21924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Marcador de Posição do Rodapé 1"/>
          <p:cNvSpPr/>
          <p:nvPr/>
        </p:nvSpPr>
        <p:spPr>
          <a:xfrm>
            <a:off x="1979640" y="6269040"/>
            <a:ext cx="63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92360" y="2565000"/>
            <a:ext cx="712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Operacionalização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9cde5"/>
                </a:solidFill>
                <a:latin typeface="Arial Narrow"/>
              </a:rPr>
              <a:t>Auditorias, trimestrais  ao cumprimento dos     procedimentos das precauções básicas de controlo de infeção </a:t>
            </a: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(</a:t>
            </a:r>
            <a:r>
              <a:rPr b="0" lang="pt-PT" sz="2000" spc="-1" strike="noStrike" u="sng">
                <a:solidFill>
                  <a:srgbClr val="0000ff"/>
                </a:solidFill>
                <a:uFillTx/>
                <a:latin typeface="Century Schoolbook"/>
                <a:hlinkClick r:id="rId1"/>
              </a:rPr>
              <a:t>PBCI</a:t>
            </a:r>
            <a:r>
              <a:rPr b="0" lang="pt-PT" sz="2000" spc="-1" strike="noStrike">
                <a:solidFill>
                  <a:srgbClr val="b9cde5"/>
                </a:solidFill>
                <a:latin typeface="Century School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Marcador de Posição do Rodapé 1"/>
          <p:cNvSpPr/>
          <p:nvPr/>
        </p:nvSpPr>
        <p:spPr>
          <a:xfrm>
            <a:off x="1908000" y="6269040"/>
            <a:ext cx="640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165640" y="1578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def3fa"/>
                </a:solidFill>
                <a:latin typeface="Century Schoolbook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ângulo 3"/>
          <p:cNvSpPr/>
          <p:nvPr/>
        </p:nvSpPr>
        <p:spPr>
          <a:xfrm>
            <a:off x="1619280" y="26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r>
              <a:rPr b="0" lang="pt-PT" sz="1800" spc="-1" strike="noStrike">
                <a:solidFill>
                  <a:srgbClr val="ffffff"/>
                </a:solidFill>
                <a:latin typeface="Adobe Caslon Pro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92360" y="206064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 u="sng">
                <a:solidFill>
                  <a:srgbClr val="b9cde5"/>
                </a:solidFill>
                <a:uFillTx/>
                <a:latin typeface="Century Schoolbook"/>
              </a:rPr>
              <a:t>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Operacionalização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601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b9cde5"/>
                </a:solidFill>
                <a:latin typeface="Arial Narrow"/>
              </a:rPr>
              <a:t>Vigilância continua das infeções e do uso de antibiótic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b9cde5"/>
                </a:solidFill>
                <a:latin typeface="Arial Narrow"/>
              </a:rPr>
              <a:t> </a:t>
            </a:r>
            <a:r>
              <a:rPr b="0" i="1" lang="pt-PT" sz="2400" spc="-1" strike="noStrike">
                <a:solidFill>
                  <a:srgbClr val="b9cde5"/>
                </a:solidFill>
                <a:latin typeface="Arial Narrow"/>
              </a:rPr>
              <a:t>O diagnostico de infeção na UCC não é assunto linear e a observação da infeção, na nossa unidade baseia-se nos critérios de McGe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b9cde5"/>
                </a:solidFill>
                <a:latin typeface="Arial Narrow"/>
              </a:rPr>
              <a:t>                           </a:t>
            </a:r>
            <a:r>
              <a:rPr b="1" i="1" lang="pt-PT" sz="2400" spc="-1" strike="noStrike" u="sng">
                <a:solidFill>
                  <a:srgbClr val="b9cde5"/>
                </a:solidFill>
                <a:uFillTx/>
                <a:latin typeface="Arial Narrow"/>
              </a:rPr>
              <a:t>Recolha de dados: </a:t>
            </a:r>
            <a:r>
              <a:rPr b="1" i="1" lang="pt-PT" sz="20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REG_ATB.x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b9cde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Marcador de Posição do Rodapé 1"/>
          <p:cNvSpPr/>
          <p:nvPr/>
        </p:nvSpPr>
        <p:spPr>
          <a:xfrm>
            <a:off x="2050920" y="6269040"/>
            <a:ext cx="655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547280" y="16286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 u="sng">
                <a:solidFill>
                  <a:srgbClr val="ddd9c3"/>
                </a:solidFill>
                <a:uFillTx/>
                <a:latin typeface="Century Schoolbook"/>
              </a:rPr>
              <a:t>População e método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Todos residentes  da UMDR e ULDR no 2º semestre 2014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b9cde5"/>
                </a:solidFill>
                <a:latin typeface="Arial Narrow"/>
              </a:rPr>
              <a:t>Tamanho da amostr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Marcador de Posição do Rodapé 3"/>
          <p:cNvSpPr/>
          <p:nvPr/>
        </p:nvSpPr>
        <p:spPr>
          <a:xfrm>
            <a:off x="1979640" y="6356520"/>
            <a:ext cx="670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e resistência aos antimicrobianos 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050920" y="3933720"/>
          <a:ext cx="6408720" cy="2089080"/>
        </p:xfrm>
        <a:graphic>
          <a:graphicData uri="http://schemas.openxmlformats.org/drawingml/2006/table">
            <a:tbl>
              <a:tblPr/>
              <a:tblGrid>
                <a:gridCol w="1584360"/>
                <a:gridCol w="1295640"/>
                <a:gridCol w="1223640"/>
                <a:gridCol w="1081440"/>
                <a:gridCol w="1223640"/>
              </a:tblGrid>
              <a:tr h="497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LD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M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Dias int</a:t>
                      </a:r>
                      <a:r>
                        <a:rPr b="0" lang="pt-PT" sz="18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Nº resid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Dias in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Nº resid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9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2º Se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4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3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1f497d"/>
                          </a:solidFill>
                          <a:latin typeface="Century Schoolbook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76000" y="116532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9c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 u="sng">
                <a:solidFill>
                  <a:srgbClr val="b9cde5"/>
                </a:solidFill>
                <a:uFillTx/>
                <a:latin typeface="Century Schoolbook"/>
              </a:rPr>
              <a:t>Análise dos resultado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Marcador de Posição do Rodapé 3"/>
          <p:cNvSpPr/>
          <p:nvPr/>
        </p:nvSpPr>
        <p:spPr>
          <a:xfrm>
            <a:off x="2340000" y="6356520"/>
            <a:ext cx="634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entury Schoolbook"/>
              </a:rPr>
              <a:t>Dia internacional: Prevenção e controlo da infeção e da resistência aos antimicrobianos   Maria José Vi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c000"/>
                </a:solidFill>
                <a:latin typeface="Century Schoolbook"/>
              </a:rPr>
              <a:t>Programa de vigilância epidemiológic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19280" y="1855800"/>
          <a:ext cx="7345440" cy="437508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Uso de antibióticos 2ºse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LD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MD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2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8" name="Gráfico 7" descr=""/>
          <p:cNvPicPr/>
          <p:nvPr/>
        </p:nvPicPr>
        <p:blipFill>
          <a:blip r:embed="rId1"/>
          <a:stretch/>
        </p:blipFill>
        <p:spPr>
          <a:xfrm>
            <a:off x="1639800" y="2706840"/>
            <a:ext cx="3578400" cy="3517920"/>
          </a:xfrm>
          <a:prstGeom prst="rect">
            <a:avLst/>
          </a:prstGeom>
          <a:ln w="0">
            <a:noFill/>
          </a:ln>
        </p:spPr>
      </p:pic>
      <p:pic>
        <p:nvPicPr>
          <p:cNvPr id="89" name="Gráfico 8" descr=""/>
          <p:cNvPicPr/>
          <p:nvPr/>
        </p:nvPicPr>
        <p:blipFill>
          <a:blip r:embed="rId2"/>
          <a:stretch/>
        </p:blipFill>
        <p:spPr>
          <a:xfrm>
            <a:off x="5353200" y="2706840"/>
            <a:ext cx="358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48:20Z</dcterms:created>
  <dc:creator>RuiPRS</dc:creator>
  <dc:description/>
  <dc:language>en-US</dc:language>
  <cp:lastModifiedBy>uldm</cp:lastModifiedBy>
  <dcterms:modified xsi:type="dcterms:W3CDTF">2015-05-04T13:46:11Z</dcterms:modified>
  <cp:revision>350</cp:revision>
  <dc:subject/>
  <dc:title>Diapositivo 1</dc:title>
</cp:coreProperties>
</file>